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3A1-BB1F-4A0A-85B2-01AD4663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8A5-166B-4616-8EED-85CF12D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436-F67B-489C-B58F-4B3B851F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578-FC9C-4C2B-981F-C4265C5C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B88-C4E3-4700-B24B-0C73641D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BF1-8165-45C3-8A4E-4A4DDFB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DB9-BBDB-4A45-9A0F-FA31133C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A34-4C35-4CE1-9203-4ABEE1F4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49D-4F8C-489A-8B78-D60645E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6AF1-2FBF-46AE-A3E3-931EBC44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58D-B360-4F68-8DE4-04017DE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159-5FDA-46DF-B5C5-E736F1C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C50-E8AE-4A70-920D-B50B4ED82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africa.about.com/od/moroccotopattractions/tp/topplacesmoroc.htm" TargetMode="External"/><Relationship Id="rId2" Type="http://schemas.openxmlformats.org/officeDocument/2006/relationships/hyperlink" Target="http://en.wikipedia.org/wiki/Morocco" TargetMode="External"/><Relationship Id="rId3" Type="http://schemas.openxmlformats.org/officeDocument/2006/relationships/hyperlink" Target="http://www.lonelyplanet.com/morocco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 Ba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han Die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585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oafrica.about.com/od/moroccotopattractions/tp/topplacesmoro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Moro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nelyplanet.com/moro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Morocco is around Africa, Europe and the Middle East. To the north of Western Sahara and to the West of Al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Morocco has such features as the Dades Gorges, Erg Chebbi, and the Straight of Gibr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It is hard for the small villages of Morocco to get water because of where they live and the cleaning process that takes for the water to be drinkable is too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resources that Morocco offers are phosphates, iron ore, manganese, lead, zinc, fish, and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0303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Vegetation includes cork oaks, oaks, juniper trees, cedars, fir trees, pine, olive, thorn bushes and dwarf p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Wild life includes camels, gazelles, panthers, wild goats, many reptiles, elephants, primates, rodents, hedgehogs, moles and w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with political power include: Mohammed VI ibn al-Hasan who is the head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e Minister is Abbas El Fa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ster of Foreign Affairs is Taieb Fassi Fih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sters of the Interior is Chakib Benmou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 of UNFP/USFP is Mohammed El Yaz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14fc"/>
            </a:gs>
            <a:gs pos="100000">
              <a:srgbClr val="18097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&amp;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edieval times Morocco was influenced my Musli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tan Mohammad was the king of Morocco during 1912-1956 and that also marked the end of Morocco as a French protect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. El Fassi, leader of the Conservation Istiqlal Party, took office in September 2007, after his party emerged as the largest in parliamentary el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99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major exports that morocco has is clothing and textiles, electric components, inorganic materials, transistors, crude minerals, fertilizers, petroleum products, citrus fruits, vegetables, and some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literacy rate is: women 31% and men 5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ne US dollar is worth 7.89 Dirhams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guages spoken are classical Arabic, French, and Span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religion is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occo takes a lot of values to the table with guests. There are specific things that you must do or you could end up off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51320" y="3107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$1=7.89 Dirha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51320" y="3107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$1=7.89 Dirha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1 place to visit in the country of morocco is the city of Marrakech. This city has a lot of historical background to Morocco. They have things worth seeing like the central square or the Saadian tomb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place to visit is Essaouira. It’s a great beach that doesn’t have a lot of travelers. Some famous people that went here were Jimi Hendrix and bob Mar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5:46Z</dcterms:created>
  <dc:creator>nathanjdiehl</dc:creator>
  <dc:description/>
  <dc:language>en-US</dc:language>
  <cp:lastModifiedBy>nathanjdiehl</cp:lastModifiedBy>
  <dcterms:modified xsi:type="dcterms:W3CDTF">2009-02-20T14:45:32Z</dcterms:modified>
  <cp:revision>5</cp:revision>
  <dc:subject/>
  <dc:title>Morocco</dc:title>
</cp:coreProperties>
</file>